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21D-31CC-45A8-84A6-AA3984AB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505-54FB-4E33-A1ED-87A1F4A9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EAF-C37C-4F65-BF30-4CA7029C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2FB-0942-4FF1-B262-A62A11F1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754-CCCA-470F-BFEE-3F206FFB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CD0-3470-492B-AE98-E438C1ED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093-5A32-4DFA-B419-53651001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1B0-118D-4D56-A994-866D97DF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46E-916F-454C-AB80-5707FF0B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A06-6820-4039-BD94-92FCDA86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E40-4B02-4B9D-8C41-45758E8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C26-2FA1-4AC5-A03A-B52FA249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536D-F4F6-496D-A65F-0550CEEB1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Resolutsioonimeetod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lausearvutu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ks efektiivsemaid meetodeid kehtestatavuse kontrolliks on resolutsioonimeet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od töötab valemitega, mis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ktiivsel normaalkuju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a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ausesümbol on või selle eitu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e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k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k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õpliku hulga literaalide disjunktsio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õpliku hulga klauslite konjunktsi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Konjuktiivset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alkuju võib vaadelda ka lõpliku hulga atomaarsekventsiden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onjunktiivset normaalku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ib vaadelda hulg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), (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, (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), (r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meetodi põhiideeks on tuletada etteantud klauslite hulgast, mis esitavad reegleid ja fakte, uusi klausle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õige lihtsam versioon kasutab kaht tuletusreegl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reegel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———————————————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ktoriseerimisreegel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ui klauslis on kaks ühesugust literaali, siis võib ühe neist kõrvaldada. Kui faktoriseerimisreegli rakendamisel klauslile C saame uue klausli C’, siis kustutame eelduse C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üüpiliselt rakendatakse meetodit klauslite hulga vastuolulisuse näitamiseks. Kui tahame tõestada valemi F tuletatavust, on see samaväärne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vastuolulisuse tõestamis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onjunktiivne normaalkuju on vastuoluline parajasti siis, kui temast k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aarsekventside lõplikust hulgast saab tuletada tühja sekvents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antud klauslite hulk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lgu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S, n :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ui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aldab tühja klauslit, lõpeta vastusega “vastuoluli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lgu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lga Sn kõigi resolventide hu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ui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õpeta vastusega “kehtestatav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Vastasel korral omista n := n + 1 ning pöördu tagasi sammu 2 juu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Korrektsu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lausel D on klauslite hulgast S resolutsioonimeetodiga tuletatav, siis kehtib valem S =&gt;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Täielikku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muutujateta klauslite hulgal S ei ole ühtegi mudelit, siis on tühi klausel hulgast S resolutsioonimeetodiga tuletatav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3:21:20Z</dcterms:created>
  <dc:creator>Tiina Zingel</dc:creator>
  <dc:description/>
  <dc:language>en-US</dc:language>
  <cp:lastModifiedBy>Tiina Zingel</cp:lastModifiedBy>
  <dcterms:modified xsi:type="dcterms:W3CDTF">2006-03-01T13:30:21Z</dcterms:modified>
  <cp:revision>1</cp:revision>
  <dc:subject/>
  <dc:title>Resolutsioonimeetod lausearvutuses.</dc:title>
</cp:coreProperties>
</file>